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A133-396B-4205-A55C-2C3413E26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questions to the appropriate big ideas from either Marian or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ed questions they have to defend to the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nutes + 10 minutes for discussion: 8: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our strategy: using popsicle sticks; 7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/Pair/Share; 7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DA2-6CA6-4015-9E2D-DF477FBC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B90-AC2A-41C8-A3E4-296EDC21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DE9-67E4-454C-A8FE-7714EF2D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59D-D7BF-4DDB-9444-C5D3452A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51C4-8336-43FB-B53D-47918F0D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46BB-4391-4A36-8F47-772B018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FB79-1B09-4F4B-97D3-7A4969E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3796-C3CC-4E03-93B7-5727BADB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194D-ECB1-4F88-9ADB-F7DB285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94BA-88DE-4AB7-92BD-58BAC1CF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CF88-893B-4CA6-B072-9AB31C67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232-45B9-4C49-937D-C4FDE57F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A732-C706-4E84-B59C-3EE83FD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C706-6DFA-4B46-9B30-1F26090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8BCA-3165-4A64-ABE6-FE6DD14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EB98-4863-4FBE-93C8-99235C58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2964-E892-4D43-A368-C0274717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E35-E9BB-4066-8A5B-439EC525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7D4-1D36-42FE-A5F2-EFE9D751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6C1-EC65-4683-93D8-DE565FDD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83F-7502-446E-8836-9D790CE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7B0-D84C-4B80-9123-304E0AA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841-E488-4C9E-A668-788A472C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041-E75A-4383-989D-F3A8BE6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3EB7-A0C1-495F-8DC2-DF1DC0A421DF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2F4-8194-402A-B302-B854C3BB2EA6}" type="slidenum"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quirkyalone.net/wp-content/uploads/2009/04/postits.jpg&amp;imgrefurl=http://quirkyalone.net/index.php/2009/04/23/find-your-life-purpose-in-five-easy-steps/&amp;usg=__gwss-xkmp_rlS1_LMzS8736ruys=&amp;h=375&amp;w=500&amp;sz=63&amp;hl=en&amp;start=7&amp;tbnid=PONCQDZyn23WvM:&amp;tbnh=98&amp;tbnw=130&amp;prev=/images%3Fq%3Dpost%2Bit%2Bnotes%26hl%3Den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9907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what you see in the square you are given proportionally onto the new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2190960" cy="2409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33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stablishing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separate sticky notes, write down three things that are important to you to be able to work collaboratively in a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8120" y="4495680"/>
            <a:ext cx="25905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02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469b"/>
                </a:solidFill>
                <a:latin typeface="Arial"/>
              </a:rPr>
              <a:t>Matching Activity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00200"/>
            <a:ext cx="510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ach question, identify the Big Idea   that it is associated with, and                   post on chart pa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2680" y="5486400"/>
            <a:ext cx="3903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ready to defend your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7335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82572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1752480"/>
            <a:ext cx="4038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859280" cy="398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43434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Proportional Reasoning: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Focused on Proportional Thinking</a:t>
            </a: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  </a:t>
            </a: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Day 1</a:t>
            </a:r>
            <a:br>
              <a:rPr sz="48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August 16, 2010</a:t>
            </a:r>
            <a:br>
              <a:rPr sz="3600"/>
            </a:br>
            <a:r>
              <a:rPr b="0" lang="en-US" sz="3600" spc="-1" strike="noStrike">
                <a:solidFill>
                  <a:srgbClr val="0d469b"/>
                </a:solidFill>
                <a:latin typeface="Book Antiqua"/>
                <a:ea typeface="Arial"/>
              </a:rPr>
              <a:t>Paul Alves, Sonia Ellison &amp; Trish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493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eet and Gree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813040" y="3535200"/>
            <a:ext cx="3602160" cy="276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39800" y="1652760"/>
            <a:ext cx="789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 strategy                                                             you have used or would like to use                                  in the first week of class                                                   to help students feel comfortable with sharing and talking about mathematics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stablishing 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separate sticky notes, write down three things that are important to you to be able to work collaboratively in a gro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495680"/>
            <a:ext cx="25905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9000" y="358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95280"/>
            <a:ext cx="83664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velop an Understanding of how the Big Ideas from Number connect to Proportion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ild a Math-Talk Learning Community   (Fearless speaking and list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1b7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ing to Evoke and Expos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Connect the Mathematical Processes to the Big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ide Differentiated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Effective Use of Learn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se 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1b7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b78c"/>
                </a:solidFill>
                <a:latin typeface="Arial"/>
              </a:rPr>
              <a:t>Provide Assessment for as and of 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oday’s Goa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Inventory of our Understanding of Proportion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familiar with the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229600" cy="3224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ad Mad Worl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914400"/>
            <a:ext cx="807732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9144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733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3276720"/>
            <a:ext cx="2590920" cy="9144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990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s/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429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PSteele</cp:lastModifiedBy>
  <dcterms:modified xsi:type="dcterms:W3CDTF">2010-08-16T21:58:33Z</dcterms:modified>
  <cp:revision>134</cp:revision>
  <dc:subject/>
  <dc:title>Slide 1</dc:title>
</cp:coreProperties>
</file>